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ECBE-BFC5-41F5-B033-24FBFFABA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95B5-06D4-45AA-96BB-8CE4F9D8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AF24-B258-40A9-8F46-1D7D9852E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BBC9-C0C6-4E70-B7DD-2BCBB4F3A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AC7B-242F-4358-82FC-143882B22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AA18-4793-4158-968E-1C1CC768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07C9-C426-4A4F-BDA2-05566BA1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7335-8C2D-4760-A32A-FBBBB675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412C-9B14-44A6-84BC-0CDAE815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7E62-6136-4182-909A-45FFBAD3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3F17-6398-475C-A471-8D252674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23FD-88F0-454D-9167-6509CCBF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1385-5F77-4372-AFB9-23F19755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FB51-36E6-4FDC-A76D-36403C75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389D-3170-4B02-B352-28EC3046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E192-F4F7-4701-904D-8CBFA9E4F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6567-6B88-4ACE-87B9-4C41268E5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57B4-1CF8-48BE-B229-4D51A2EF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E5EF-0547-4B48-AFE2-75449CE3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BA26-C9C4-4570-91E5-E954E566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43AD-623D-478F-B13C-8F572946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6B44-8828-4B82-8EB3-D915D581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B336-1854-48C2-A668-F19A8B8E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B3B7-C8C2-47A0-8565-F1BC8D11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D1AC-D103-47DD-94F4-2DFC163077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4737-0F3F-4E64-92EE-715D787A30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The 1950s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Visual 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971800" y="1523880"/>
            <a:ext cx="332748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124080" y="1600200"/>
            <a:ext cx="357372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971800" y="1523880"/>
            <a:ext cx="340992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363852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124080" y="1600200"/>
            <a:ext cx="353700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572292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91056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383868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971800" y="1447920"/>
            <a:ext cx="343692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6078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460692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610560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347328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124080" y="1600200"/>
            <a:ext cx="3537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75732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622476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2:30:02Z</dcterms:created>
  <dc:creator>epilla</dc:creator>
  <dc:description/>
  <dc:language>en-US</dc:language>
  <cp:lastModifiedBy>epilla</cp:lastModifiedBy>
  <dcterms:modified xsi:type="dcterms:W3CDTF">2010-03-24T12:32:52Z</dcterms:modified>
  <cp:revision>2</cp:revision>
  <dc:subject/>
  <dc:title>The 1950s</dc:title>
</cp:coreProperties>
</file>